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5E08-2793-4AF6-8ADA-720853E0C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Point™ — Quality questions. Stro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 Assessment Items Aligned to Stat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uthoring content is easy in TurningPoint and TestingPoint, we also include with your student response system purchase QuestionPoint—a question bank of 30,000 high quality assessment items aligned to state standards sorted by grade and subject. Powered by LearnStar, these accredited content questions help teachers and administrators immediately start implementing valuable assessment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100% integration with TurningPoint and TestingPoint, educators are easily able to load QuestionPoint interactive questions for formative and summative assessments to measure student performance and focus on problem areas prior to high-stakes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Point is provided free of charge with your purchase of a TurningPoint student respons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nten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QuestionPoint content, teachers can easily incorporate content into their TurningPoint presentations from a variety of resources. Easily upload recognized content materials including ready-made questions from select McGraw Hill and Thomson textbooks. Users can also automatically load their questions from a Word document without having to completely retype the material. And in many instances, teachers can use content from other external sources and publishers by simply cutting and pa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193E4-7F68-4F46-80BB-74072C52B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45182-B3FA-4414-907E-F25E9038A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FD8C1-4D23-4831-BD73-CFE18C84D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BE05A-7E53-46D9-91E1-47ADF496E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1FD5A-B200-48D2-9F8D-245A6BFE9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1C1CE-FE02-40B7-B27E-A116AA527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A1B3A-A58D-47CA-B645-4FEADCC38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69452-E418-412C-82BD-AD4DB18F6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52FD4-CB15-4421-9769-EB2C78413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21408-2037-40E6-98BC-6E3995533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44AB5-F366-4A84-BC51-07DC15B93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BF9F7-18BB-41A8-AFE4-B2B0CA6F5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70000" y="-201600"/>
            <a:ext cx="9684000" cy="72626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E9C3-2AF7-4A3A-AC7A-EA81E1D795AF}"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turningtechnologies.co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70000" y="-201600"/>
            <a:ext cx="9684000" cy="7262640"/>
          </a:xfrm>
          <a:prstGeom prst="rect">
            <a:avLst/>
          </a:prstGeom>
          <a:ln w="0">
            <a:noFill/>
          </a:ln>
        </p:spPr>
      </p:pic>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sing Clickers Assess Student Knowledge</a:t>
            </a:r>
            <a:endParaRPr b="0" lang="en-US" sz="4400" spc="-1" strike="noStrike">
              <a:solidFill>
                <a:srgbClr val="000000"/>
              </a:solidFill>
              <a:latin typeface="Comic Sans MS"/>
            </a:endParaRPr>
          </a:p>
        </p:txBody>
      </p:sp>
      <p:sp>
        <p:nvSpPr>
          <p:cNvPr id="51" name="PlaceHolder 2"/>
          <p:cNvSpPr>
            <a:spLocks noGrp="1"/>
          </p:cNvSpPr>
          <p:nvPr>
            <p:ph type="subTitle"/>
          </p:nvPr>
        </p:nvSpPr>
        <p:spPr>
          <a:xfrm>
            <a:off x="28954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enna Karkoska</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vember 17, 2009</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Use a Student Response System?</a:t>
            </a:r>
            <a:endParaRPr b="0" lang="en-US" sz="4400" spc="-1" strike="noStrike">
              <a:solidFill>
                <a:srgbClr val="000000"/>
              </a:solidFill>
              <a:latin typeface="Comic Sans MS"/>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gage students in active learning</a:t>
            </a:r>
            <a:endParaRPr b="0" lang="en-US" sz="2400" spc="-1" strike="noStrike">
              <a:solidFill>
                <a:srgbClr val="000000"/>
              </a:solidFill>
              <a:latin typeface="Comic Sans MS"/>
            </a:endParaRPr>
          </a:p>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s student participation</a:t>
            </a:r>
            <a:endParaRPr b="0" lang="en-US" sz="2400" spc="-1" strike="noStrike">
              <a:solidFill>
                <a:srgbClr val="000000"/>
              </a:solidFill>
              <a:latin typeface="Comic Sans MS"/>
            </a:endParaRPr>
          </a:p>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students with immediate feedback</a:t>
            </a:r>
            <a:endParaRPr b="0" lang="en-US" sz="2400" spc="-1" strike="noStrike">
              <a:solidFill>
                <a:srgbClr val="000000"/>
              </a:solidFill>
              <a:latin typeface="Comic Sans MS"/>
            </a:endParaRPr>
          </a:p>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ables teachers to customize instruction based on student responses</a:t>
            </a:r>
            <a:endParaRPr b="0" lang="en-US" sz="2400" spc="-1" strike="noStrike">
              <a:solidFill>
                <a:srgbClr val="000000"/>
              </a:solidFill>
              <a:latin typeface="Comic Sans MS"/>
            </a:endParaRPr>
          </a:p>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rts 21st Century Teaching and Learning</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urning Point</a:t>
            </a:r>
            <a:endParaRPr b="0" lang="en-US" sz="4400" spc="-1" strike="noStrike">
              <a:solidFill>
                <a:srgbClr val="000000"/>
              </a:solidFill>
              <a:latin typeface="Comic Sans MS"/>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grates seamlessly with Microsoft PowerPoi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bile uni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estion Poi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0080"/>
                </a:solidFill>
                <a:uFillTx/>
                <a:latin typeface="Comic Sans MS"/>
                <a:hlinkClick r:id="rId1"/>
              </a:rPr>
              <a:t>Websit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ys to Use SRS</a:t>
            </a:r>
            <a:endParaRPr b="0" lang="en-US" sz="4400" spc="-1" strike="noStrike">
              <a:solidFill>
                <a:srgbClr val="000000"/>
              </a:solidFill>
              <a:latin typeface="Comic Sans MS"/>
            </a:endParaRPr>
          </a:p>
        </p:txBody>
      </p:sp>
      <p:sp>
        <p:nvSpPr>
          <p:cNvPr id="5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ce Breake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SSA Practice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0080"/>
                </a:solidFill>
                <a:uFillTx/>
                <a:latin typeface="Comic Sans MS"/>
                <a:hlinkClick r:id="rId1" action="ppaction://hlinksldjump"/>
              </a:rPr>
              <a:t>Formative Assessmen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tive Assessment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mative Assessments</a:t>
            </a:r>
            <a:endParaRPr b="0" lang="en-US" sz="4400" spc="-1" strike="noStrike">
              <a:solidFill>
                <a:srgbClr val="000000"/>
              </a:solidFill>
              <a:latin typeface="Comic Sans MS"/>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essential for planning</a:t>
            </a:r>
            <a:endParaRPr b="0" lang="en-US" sz="24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be formal or informal</a:t>
            </a:r>
            <a:endParaRPr b="0" lang="en-US" sz="2400" spc="-1" strike="noStrike">
              <a:solidFill>
                <a:srgbClr val="000000"/>
              </a:solidFill>
              <a:latin typeface="Comic Sans MS"/>
            </a:endParaRPr>
          </a:p>
          <a:p>
            <a:pPr lvl="1" marL="720720" indent="-277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sts, diagnostic and placement evaluations, open ended</a:t>
            </a:r>
            <a:endParaRPr b="0" lang="en-US" sz="2000" spc="-1" strike="noStrike">
              <a:solidFill>
                <a:srgbClr val="000000"/>
              </a:solidFill>
              <a:latin typeface="Comic Sans MS"/>
            </a:endParaRPr>
          </a:p>
          <a:p>
            <a:pPr lvl="1" marL="720720" indent="-277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rance/Exit tickets, homework, journals, road signs</a:t>
            </a:r>
            <a:endParaRPr b="0" lang="en-US" sz="20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ppen before, during, and after instruc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lan of Attack</a:t>
            </a:r>
            <a:endParaRPr b="0" lang="en-US" sz="4400" spc="-1" strike="noStrike">
              <a:solidFill>
                <a:srgbClr val="000000"/>
              </a:solidFill>
              <a:latin typeface="Comic Sans MS"/>
            </a:endParaRPr>
          </a:p>
        </p:txBody>
      </p:sp>
      <p:sp>
        <p:nvSpPr>
          <p:cNvPr id="6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er Trivia</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ing a Turning Point Presentation</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estion Poin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h</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ing</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ewing Collected Data</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actice Makes Permanen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02:54:09Z</dcterms:created>
  <dc:creator>Hempfield SD</dc:creator>
  <dc:description/>
  <dc:language>en-US</dc:language>
  <cp:lastModifiedBy>Hempfield High School</cp:lastModifiedBy>
  <dcterms:modified xsi:type="dcterms:W3CDTF">2009-11-17T15:44:45Z</dcterms:modified>
  <cp:revision>18</cp:revision>
  <dc:subject/>
  <dc:title>Formative Assessment Using Technology</dc:title>
</cp:coreProperties>
</file>